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29A-8CFB-47DC-ABBB-D05EFFA8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F25-DA17-43E0-82AF-CDE2AE34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F55-D8A5-46E6-8A2D-16452866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F73-0FA9-4261-8FD9-8C95A765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880-72E5-4F85-9F2D-6129D00A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DD29-1570-4D24-8DC1-1C4353E3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F691-2E16-4C81-90C6-98EDAA41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E74-B89B-4576-9947-789C0B8A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211-67FD-4E2C-BF8E-C20BC0E2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5BB-2EC0-4314-B0F5-6566E972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A8E-A722-4AE5-AE50-06348DF9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DF3D-7E7B-4260-9250-4C850442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788C-B415-4B4D-8B31-3754C5FC7A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6178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LLCROFT  MILLENNIUM                  GLASGOW  MASONIC                            RUTHERGLEN  &amp;  DISTRICT           CLYDE  CART  TOUR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9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Clyde Cart Tourists"/>
          <p:cNvPicPr/>
          <p:nvPr/>
        </p:nvPicPr>
        <p:blipFill>
          <a:blip r:embed="rId1"/>
          <a:stretch/>
        </p:blipFill>
        <p:spPr>
          <a:xfrm>
            <a:off x="5600880" y="47628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Rutherglen Assoc 50th.JPG"/>
          <p:cNvPicPr/>
          <p:nvPr/>
        </p:nvPicPr>
        <p:blipFill>
          <a:blip r:embed="rId2"/>
          <a:stretch/>
        </p:blipFill>
        <p:spPr>
          <a:xfrm>
            <a:off x="3944880" y="260280"/>
            <a:ext cx="1243080" cy="1390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Glasgow Masonic.JPG"/>
          <p:cNvPicPr/>
          <p:nvPr/>
        </p:nvPicPr>
        <p:blipFill>
          <a:blip r:embed="rId3"/>
          <a:stretch/>
        </p:blipFill>
        <p:spPr>
          <a:xfrm>
            <a:off x="2000160" y="404640"/>
            <a:ext cx="1243080" cy="1283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Wellcroft Millennium1.JPG"/>
          <p:cNvPicPr/>
          <p:nvPr/>
        </p:nvPicPr>
        <p:blipFill>
          <a:blip r:embed="rId4"/>
          <a:stretch/>
        </p:blipFill>
        <p:spPr>
          <a:xfrm>
            <a:off x="344520" y="333360"/>
            <a:ext cx="10605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9:57:43Z</dcterms:created>
  <dc:creator>HP authorized customer</dc:creator>
  <dc:description/>
  <dc:language>en-US</dc:language>
  <cp:lastModifiedBy>John</cp:lastModifiedBy>
  <dcterms:modified xsi:type="dcterms:W3CDTF">2011-11-16T21:38:18Z</dcterms:modified>
  <cp:revision>7</cp:revision>
  <dc:subject/>
  <dc:title>Slide 1</dc:title>
</cp:coreProperties>
</file>